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876C-2420-4B77-B57A-AEA00B51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C0B-5625-41CD-9F05-12C5F3F7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11BD-B250-4775-AA23-5195309C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2E0B-9E9E-4051-88B7-AFBCA4F6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2B6B-5043-49AE-A0ED-4DF29A8B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DCDF-3300-453F-A5D0-813C818A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0933-A7D6-4B92-B7CF-63759616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1172-5B3E-414D-8D91-1F11C0B7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C265-4C3D-4291-9A0A-8C81BC04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E743-D25F-42FA-946C-5CC059C7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CE7A-5B31-4814-82D8-E29CC689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2A5E-4E68-4572-9B90-E30F111C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04FB-7930-438D-B324-F1F0D29F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A7E1-A3AA-4104-B726-2B40EA2B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94FD-F396-4CBA-925D-6B63DB87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2DBD-34AE-4FB9-981B-1586FDE4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1B7E-6C26-433D-8A37-1A7166A5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BDE37-444B-4313-A60E-C6227F93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06B2A-18B6-48F1-8E0A-9F762C2B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61A9A-2FCA-4B4C-B43C-A10A0F58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21E00-8A84-4677-BC25-6A3A8AD0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F35EE-9350-414A-BE91-2BB477AC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4115-BB58-446B-AEBA-95512250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346FD-782A-4446-9C1F-7132E20A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1F03B-EDAA-4AFF-9540-6A08416E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7576F-11B0-4F57-9E99-7E5FCAE3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4F524-33E1-4E7B-BFE8-64B84305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E7B0D-2233-404F-BDF3-2A5D0410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20C3D-22C9-4BFB-8BF3-EB1CA854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9FEA3-1109-4ECC-B262-F4F022A3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7D7E7-CB81-4AFF-AD47-8C2F647C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7F093-2B94-4E44-8A58-F96E60C6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24789-5C83-4EA1-B276-651457B1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CCC4-AA77-44BE-AA73-FA989972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52C3D-2603-4552-B7A4-464D5848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135EF-5648-43EA-AA11-FFEB058C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BF8E7-AF19-47F6-8FAA-49EB8777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27886-7304-474F-9671-F401AD9B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5D3BF-2385-4EA2-8553-46B0323B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1282F-279A-4A18-97F9-37C26672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A1D23-830A-48C2-8CF7-29227E60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4BC09-D336-403F-A31C-1C2CCF16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0EA44-D762-4EA7-8194-E559488A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16D9C-BCD5-4527-8D4C-F1048BC9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C13A-562F-448D-99F6-D6794479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74722-0D48-4939-B7FF-4BB6CACF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960B1-699A-489A-ACB8-D0CB7B15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55E42-6C8E-466C-9E76-AAE14F65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CEDA5-DD32-48D2-AECE-4AA8361C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977F4-F141-4D23-B3B3-FBEA3D7A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DC7BA-FCAE-486A-BEBB-FD13CF5F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181AE-200B-4823-B952-EE93946C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055EA-4EA8-4BC0-8B29-851B8E1A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37D7F-7623-4691-99E4-40F6F72A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E3A47-5B58-4801-9E1C-50B7649E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8606-60AA-48B8-A8B8-3E0A498C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81E65-9B1B-4DD2-A66C-53657851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41F02-0EDE-4A69-8BE9-525644D4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DCD59-7882-4778-A7AA-F2686BCA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5F020-A6FD-4840-935E-7F586670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296F5-8960-4C53-9101-99177EFB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5B534-1C55-4736-85EF-AF524C8B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71CDB-9D0B-486B-8F4A-E9A8C8F7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0F553-0EDB-4984-8F77-FF9DB423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E1006-AEF3-4387-B411-B3CAE4B0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8EBBC-7181-4E44-A5A2-16DD053E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908E-0EDD-4249-84EF-17A949CA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7E3C4-AD84-4B40-BD1D-62050965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5C5B1-6BC8-4000-922C-99EEFC89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B553C-5E1B-4598-B99F-BB329DAE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AF092-C4AD-475F-A75E-BF793006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19479-2D8F-45B0-AD7B-7E7105C1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E914D-5945-49AD-8091-0B5ACE05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B8CF7-070F-4EC0-9E57-5C3FA331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89C37-1DEB-4B91-873F-0D1AC146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11380-C167-49B3-987B-8BD4B53E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AB591-7184-4419-A729-0ADB4ABA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954C-77B2-4EEA-A943-00975D38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F1E59-E3E7-4759-BBB4-80F24086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3BEDE-8D58-4D75-A97C-09A7DB45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1D8ED-6D8C-433D-A940-2BE8AF88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17218-50FE-4085-B17F-A86F0939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F463B-A1E4-4970-9AFF-FC992AA4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EA7AE-58DE-48CF-9C5B-66F61B82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277DF-3131-4C61-BD12-2E92A76C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BACF6-9C30-4CA8-BBC7-560D72C4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7725C-1E85-44D0-A4CB-0B5CC6ED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DEC9B-026D-414C-B034-82BBA080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358E-ABE6-4E42-8D6A-73AF147F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AEE29-CE34-4FF0-A3A9-EE97427F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261A1-326C-436F-8FB1-4647AD55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5643F-6ACC-4FB6-948A-2995D659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987E4-E0D5-4C6D-A237-4BAEE962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C7466-10DF-488D-8B20-D88066D8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3C99D-7BD5-4741-AABE-949AD6BE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F76D9-5FAC-4ABE-9390-6D8E29B7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riangolo rettangolo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Connettore 1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Connettore 1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97AA-8E71-403D-9E26-24EA3EB0D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riangolo rettangolo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Connettore 1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Connettore 1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Triangolo isoscele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7899-BB7A-4583-9247-3FF77AA8E8B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riangolo rettangolo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Connettore 1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Connettore 1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48CB-7421-4B6B-A847-EED49874D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riangolo rettangolo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Triangolo isoscele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Connettore 1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Connettore 1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FDEA-3B4F-4038-B7BC-0E4C81D206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riangolo rettangolo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Connettore 1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Connettore 1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4BAE-C5D7-438D-BFEA-A139623A7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A939-1116-4074-AE3D-01B7B79CC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1811-EA40-4B23-8CA3-D777CE344AEB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0C48-6500-4040-B1D4-835DB0938BDA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15" descr=""/>
          <p:cNvPicPr/>
          <p:nvPr/>
        </p:nvPicPr>
        <p:blipFill>
          <a:blip r:embed="rId1"/>
          <a:stretch/>
        </p:blipFill>
        <p:spPr>
          <a:xfrm>
            <a:off x="444600" y="3998880"/>
            <a:ext cx="8254800" cy="658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SAA_1a_LOGO_NUOVO_2008"/>
          <p:cNvPicPr/>
          <p:nvPr/>
        </p:nvPicPr>
        <p:blipFill>
          <a:blip r:embed="rId2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Univerità"/>
          <p:cNvPicPr/>
          <p:nvPr/>
        </p:nvPicPr>
        <p:blipFill>
          <a:blip r:embed="rId3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E OPERAZIONI DI FINANZIAMENTO BANCARI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onsiderazioni introduttiv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f.ssa Paola De Vincenti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f.ssa Eleonora Isai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olo 1" descr=""/>
          <p:cNvPicPr/>
          <p:nvPr/>
        </p:nvPicPr>
        <p:blipFill>
          <a:blip r:embed="rId1"/>
          <a:stretch/>
        </p:blipFill>
        <p:spPr>
          <a:xfrm>
            <a:off x="450720" y="73080"/>
            <a:ext cx="8242560" cy="13539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Un quadro di sintesi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PRESTITI ALLE IMPRESE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PRESTITI A BREVE TERMINE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Aperture di credito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Sconto cambiario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Anticipi S.B.F. su ricevute bancarie e fatture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Factoring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Anticipazioni garantite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PRESTITI A MEDIO-LUNGO TERMINE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Mutuo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Leasing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PRESTITI DI FIRMA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PRESTITI ALLE FAMIGLIE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Mutui ipotecari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Credito al consumo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olo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74400" cy="1597320"/>
          </a:xfrm>
          <a:prstGeom prst="rect">
            <a:avLst/>
          </a:prstGeom>
          <a:ln w="0">
            <a:noFill/>
          </a:ln>
        </p:spPr>
      </p:pic>
      <p:pic>
        <p:nvPicPr>
          <p:cNvPr id="350" name="Sottotitolo 2" descr=""/>
          <p:cNvPicPr/>
          <p:nvPr/>
        </p:nvPicPr>
        <p:blipFill>
          <a:blip r:embed="rId2"/>
          <a:stretch/>
        </p:blipFill>
        <p:spPr>
          <a:xfrm>
            <a:off x="596880" y="2914560"/>
            <a:ext cx="828504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olo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’espressione “politica dei prestiti” fa riferimento all’insieme di decisioni assunte dal top management della banca in relazione alla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IMENSIONE del portafoglio prestiti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OMPOSIZIONE del portafoglio prestiti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QUALITA’ del portafoglio prestiti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olo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220464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trumentale al processo di crescita della banc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ilevante per la redditività della banca anche in termini di cross-sell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ritica per il trade-off tra dimensione e rischio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olo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425080" cy="1407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ATTORI INTERNI (leve manageriali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La funzione obiettivo degli organi di governo della banca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Le caratteristiche della raccolta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L’assetto strutturale e organizzativo della banca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ATTORI ESTERNI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Quadro macroeconomico di riferimento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Livello di maturità della clientela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ropensione di individui e imprese alla detenzione di attività finanziari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truttura e concorrenzialità del settore bancario nell’area geografica di riferimento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olo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988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I criteri di composizione del portafoglio prestiti mirano a: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TTENERE UN’ADEGUATA REMUNERAZIONE dei fondi impiegat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INIMIZZARE il rischio complessivo diversificando le esposizioni creditizi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er settore di attività economic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er area geografica dei settori affidat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er classi dimensional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er forme tecniche di finanziament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er volumi e durate degli affidament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er condizioni di tass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er valuta di denominazione degli affidament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olo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isurabile in termini di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TABILITA’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privilegiando rapporti di lungo periodo e a 360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LASTICITA’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permettendo rapidi aggiustamenti qualitativi e quantitativi in risposta a mutate condizioni di mercato, della banca stessa e delle normative di riferimento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RISCHIOSITA’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definendo un livello medio di rischio medio gestibile e allo stesso tempo remunerativo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olo 1" descr=""/>
          <p:cNvPicPr/>
          <p:nvPr/>
        </p:nvPicPr>
        <p:blipFill>
          <a:blip r:embed="rId1"/>
          <a:stretch/>
        </p:blipFill>
        <p:spPr>
          <a:xfrm>
            <a:off x="390600" y="311040"/>
            <a:ext cx="8454960" cy="14256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191592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Le regole in materia di concentrazione dei rischi mirano a salvaguardare la stabilità dell’intermediario, limitando la concessione di finanziamenti di importo rilevante rispetto al patrimonio di vigilanza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Le finalità nello specifico sono due: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imitare la perdita potenziale massima derivante dall’insolvenza di una singola contropart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antenere un soddisfacente grado di frazionamento del rischio creditizio del portafoglio prestit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 limiti si applicano a qualsiasi forma di finanziamento e garanzia offerta alla clientela che comporti un rischio di credit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olo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96560" cy="15476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206064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er “grandi rischi” si intendono le esposizioni creditizie più consistenti (&gt; 10% PV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IMITE INDIVIDUAL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l singolo grande fido non può superare il 25% del patrimonio di vigilanz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IMITE COMPLESSIVO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a somma dei grandi fidi non può superare 8 volte il patrimonio di vigilanz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07:43:01Z</dcterms:created>
  <dc:creator> Isaia</dc:creator>
  <dc:description/>
  <dc:language>en-US</dc:language>
  <cp:lastModifiedBy>Eleonora</cp:lastModifiedBy>
  <dcterms:modified xsi:type="dcterms:W3CDTF">2012-06-18T11:53:18Z</dcterms:modified>
  <cp:revision>49</cp:revision>
  <dc:subject/>
  <dc:title>Introduzione alle forme di impiego delle banche</dc:title>
</cp:coreProperties>
</file>